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er to peer and teacher to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acilitating and one recording collecting spontaneously what we do ourselves as providing responding to students in the mo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05EB-9078-4592-8DFF-DAE1456AC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911F-8DDE-4985-89EC-49C2D735A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316F-AC1F-4264-8BC6-F7BAF2D50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D972-1A3B-4A5B-BB29-E5CA5652F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FD81-43C6-4C8B-90F6-4A0E77EAAD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FD7C-7410-443B-BA3E-0C6B1091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2387-4611-4BF8-A560-20EFDC2CF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05DF-10BD-4AB5-9E7C-7E4E591A9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F83F-C60D-448A-AB7C-C6F3D69EB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1FB1-47A0-4BF6-AC85-1C903986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5FE8-7210-4F74-914E-E6762114C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F33B-6798-4BC3-8C29-F313A80FD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205-BD15-4B4C-90A4-64E02563F5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296-0550-4387-9D6E-6AB8A72257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679E-F768-4BBE-ABFF-F996A7F3B3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7E0-4070-4AB4-8D59-597FB70D7F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393-12D9-4D9F-83D8-C500E4DFFF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B1B-2C33-4709-B6A2-58897EA0B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E56E-D268-429F-95B8-4D61FC896C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F7B-772A-4130-ADEE-ED3D39E055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087F-D340-47FA-8ABA-A5BC6EB98F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457-3340-4A9D-96E6-56BF2131E9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8F5-CC9F-427A-9C9D-DD42FDF3AD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703-BC4A-47F7-A56B-CDA3267AA3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E91-3FC9-4D53-BCF8-30A5B1F3C2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867B-97B6-4861-BF84-565258821B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933-C47D-4921-A2DB-D6AA4D33F3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2B63-6E9F-44BF-A6B9-3C951318BB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F9F-04F2-4E12-AAE5-5B0B874CB4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2CA-3BD9-4B73-94EE-CA8AA4E1F3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48E-408F-49D7-9D9F-FF6FFB79B8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F1A-18F5-46AA-80D7-6DEED0BE9F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2B2-3B2F-442D-8C92-BF68E4EAE2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294-186F-4C94-AACA-3BCA6CA840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8T23:36:14Z</dcterms:modified>
  <cp:revision>74</cp:revision>
  <dc:subject/>
  <dc:title>&lt;Title&gt;</dc:title>
</cp:coreProperties>
</file>